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31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44.jpeg" ContentType="image/jpeg"/>
  <Override PartName="/ppt/media/image40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51.png" ContentType="image/png"/>
  <Override PartName="/ppt/media/image19.jpeg" ContentType="image/jpeg"/>
  <Override PartName="/ppt/media/image42.jpeg" ContentType="image/jpeg"/>
  <Override PartName="/ppt/media/image37.jpeg" ContentType="image/jpeg"/>
  <Override PartName="/ppt/media/image30.png" ContentType="image/png"/>
  <Override PartName="/ppt/media/image48.jpeg" ContentType="image/jpeg"/>
  <Override PartName="/ppt/media/image13.gif" ContentType="image/gif"/>
  <Override PartName="/ppt/media/image16.png" ContentType="image/png"/>
  <Override PartName="/ppt/media/image49.jpeg" ContentType="image/jpeg"/>
  <Override PartName="/ppt/media/image20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667-7EDB-4F6C-B360-23A70EF8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639-3965-4819-92AB-CE72BCB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A235-B7A7-4E65-A680-3234CFE5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3D9B6-D2D4-46D5-A3D8-E0A45E9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1041D-5109-4AAC-AEAA-5E195CF5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9A20-4A2B-417C-A9A3-433A465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F76A5-D610-4018-B569-E0184C23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A0D6E-B546-46C3-8F5B-ADB7963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F201A-C106-4AA4-9E63-04539130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1FD94-5D4A-436F-B935-E28E9579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470F8-ACF6-4668-AFA1-B33A5A2F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A965A-429D-4886-B3C1-6856D8E0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0AA-BDCE-4A6B-B0E3-F9435739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F3063-2CAD-45AC-AAE3-BB9240D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DA7BE-A520-4936-A436-4D6BDC4B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9289-4281-4CD4-970B-ADAA7AF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C9753-0609-4429-B598-3430170E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7A4A1-923A-4AA2-873C-09BC506C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691E8-F912-4024-A2A9-57ED1C7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4CD0B-90AF-4A5B-99B2-8DEE8C8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9E579-A486-4FD4-9945-A3246E1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2104A-1027-45C4-98C4-DE8ED51F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28778-A85F-43F8-8B2D-A3D406FE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5C8-0DD2-451C-87D4-DD91FDC8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5C54-CDE7-4605-80EC-075FE949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257F-31A5-4DBA-92FC-ED9BC47E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B80B-A4FD-4934-ADED-F53BE2A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94789-AABC-45D1-8BBB-23575A6E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21215-7F98-4A3C-8F58-6AF2205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F4D6C-E204-4660-A53D-260AA7B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52383-E484-4400-A8C5-49439238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F43A-55C3-41D1-BF9B-F56F04B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50F6D-C44B-44E4-92F9-92393ED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DD42-CBB7-4EEF-A0EB-6D5530A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39D-E062-4725-9F73-010041FB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B47F4-341D-45D0-B3E5-B336F508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ACC71-4448-4158-AED9-EDE2226C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E8D0-CDB3-4E47-9C9D-4CDE8A2A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374EE-9485-4B23-90AE-ADD1170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12E1C-7404-4759-883B-37C98AA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3DF06-D3EF-44E8-81DC-1741DD1C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F5103-C63C-4CE2-97B2-9E7A975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3725-5B8D-494B-BAB4-709A73D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BF40-5C8D-4F0E-B9C8-EF363A8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77238-621B-4025-95FF-C131F8D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06F-982E-45ED-8D7F-9E12769C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DB978-55BE-4942-B681-DA4E3BB3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3875D-7585-49BF-A1BB-0AE05B4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AF9DC-D7B1-4DC8-BC3A-3CF5D78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D66ED-5504-4409-85C6-DD462283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8579-7B63-4977-8837-0CB9B62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5A3A-F3EB-4605-9C9F-F2B83772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E56-187D-442B-8980-E323487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2C95-B2E6-48F9-891B-F021CA8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385-BA8B-4E5B-A7EA-A299A98B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D2D4-2243-4940-B3FD-C963E81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416-39F0-4194-8772-95DE1BF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D3A-2AEC-4B53-86E7-FCE5805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B674-F963-44D9-8FFD-43F23D2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A3BC-0237-4021-915A-95C8FCF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18C-C43B-469B-AA17-6236C697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497-8691-4E0C-B5A7-6DB3B43F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2A6E-A0F8-4689-9C72-EDEF5B6E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21B5-AF35-4018-875F-0F34A80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F037D-4FAF-48FC-9D57-12373A3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E78C-137F-4080-BBF0-BCED8F55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A72A-8ED3-45D6-B5D6-71E99FFB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C74-C038-40B9-95A2-B7AFD72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5E1F-DE57-4A08-B6FA-8D8D527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6778-C155-4110-B60B-0139EC79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12C2-BFF7-4171-902F-41AA7E2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8C44-8B35-42F0-95C4-6ABB9617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4592-2FD1-454F-9BAD-B6DB841C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9506-E956-4EF4-BB00-4E4CDC64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E427-EEA8-45AF-8A06-10C8EA5F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EF22-A8D5-4A3E-A811-B065D2E4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562A-D27B-4A6A-BF1B-2E729C59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7326-F3AD-4472-9CFF-6BAA5592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CAD-85AA-4717-AAB1-D0A9A4C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5708-3AE5-44C0-89F5-5DBA22B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37F3-F02F-45ED-B05C-D05AE4E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30F8-4026-4702-81AE-BC31DFA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5AFA-9D14-4783-91EC-4082AF2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86BD-8BAD-42F9-8CC5-D05F82B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90FC0-11AB-42D5-A4D9-BFD8F622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493A-130B-4F03-B82F-20C24A23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0D6E-E41B-45E4-A97B-73618158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1541-744F-426E-9F2C-7087B43A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92B6-A620-487E-8330-3F94AE84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830-5519-4AFC-A86F-BD09A3A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E4DB-E009-4439-A1D7-0CCD55F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9CCB8-83E8-492E-9736-B2B6F789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103E-9C2D-47B8-8531-3BDE804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A881-34D3-4308-BA7E-251E619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7CE1-ED3F-4098-8573-5AD343C5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F80E6-B239-4975-9E2E-DC05F77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CBB8-02DD-4017-88E0-A4FB2432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1F22-D1A6-4444-8EE8-DB6F225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00A5-CDB5-4C20-AE4D-8F80D200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805D-3494-4A3A-8C38-51A9E341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2DD-7575-469A-8B57-69C8839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457E-5D91-4F31-80B9-0737EBB7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7408-62BA-4030-AF29-63663110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4D55-21E5-452B-B1F9-E1BDEBF6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F7ACC-B56F-4199-AA11-45056C5C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58D7-7C15-4F96-89FC-3F1E754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C426-E48F-43AD-B91D-4A8896D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1E255-1F4D-4231-B6CA-CB25E48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127F-4B3C-4A58-8825-F0C1990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D0B0-7D35-40ED-81A9-D497C0E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1E25-EAAD-4E6C-B476-98BDBA99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B92-A577-4DA1-9099-E6280DC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AD013-3341-42CC-AB36-86617197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EF26-76CB-4830-B809-66FDC358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6D0EA-809C-4BD7-BD11-A4B035D5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F4B8-C851-419D-BEE1-FA51E0A6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DBB6-ACC6-4A5B-A3FC-3A8C3F0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BC640-6F6C-4401-B07C-F727611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E4024-EF5A-4961-B6F2-5392302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C57E1-C3F1-43F4-B916-7EEDFD8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708A-667F-402F-94C1-BFED39D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89450-BDD7-4DDD-A1ED-8136B3B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34B-9D90-4B65-A610-A454B714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6CDE-8375-47A5-8B7A-69E24EF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7B245-FFFD-4E90-BA81-84DC070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A7D1-3359-4B5A-BBB4-FE33D0D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9314-6800-4963-BA46-A3B3B7FB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1DA5-2C83-40EC-AB86-E8D307AF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B4D9-78AB-4514-AB34-337A65AD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8A8A-4719-4DD2-A60C-7397D3E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202C-FDB0-4669-B34D-5EA7050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FE06-526C-47A3-AF87-84BF2990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EDA72-22BB-4F91-B169-3325DF2E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23D-6B1C-4453-A70B-25DEB14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0A2A-67D7-42F3-9869-F648001D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F586-D883-4A5B-8A46-6435FFD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ACFD-F543-4B55-B3A1-4A50F01A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9B58F-4FE2-47C2-997B-66144FE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9CBA-015F-42DA-B42D-A18A745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AAA8-C855-46CA-89CE-297A4C55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E332B-1DA3-4292-8976-DF868DBB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45E1-E2EB-4932-8957-7C85D35A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05E80-60B4-4CA1-AE92-3579380C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BC59-43AA-45AE-A2EE-494EA0F5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8E5-72DD-48D9-B42C-097B80A491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E1A6-4831-447B-8D73-FECB77D72C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71E-2ABC-403B-929F-23A900A094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CE6E-EC65-4C36-9C50-6EE29971DE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888-019D-4F6E-BAC5-30C2D142F3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AAB6-FBF3-460C-89FF-C4A752F299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A1E-5CBC-4D79-A31E-ABD435B18D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229-B4AF-4028-ABF6-EC3189610E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14CE-8678-4DFF-A66A-05B2FCA46B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7A9-E289-4B09-902E-C514E29A81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889-A1AF-44AE-803B-E6768FCD06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711-34A4-49FC-8075-E3505BCB03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8.jpe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jpe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0.jpe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20.jpe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21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2.jpeg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50.jpeg"/><Relationship Id="rId12" Type="http://schemas.openxmlformats.org/officeDocument/2006/relationships/image" Target="../media/image51.png"/><Relationship Id="rId1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139680"/>
            <a:ext cx="8362800" cy="1201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7"/>
          <p:cNvSpPr/>
          <p:nvPr/>
        </p:nvSpPr>
        <p:spPr>
          <a:xfrm>
            <a:off x="4143240" y="2286000"/>
            <a:ext cx="48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Он открыл людям Земли дорогу в неизвестный мир. Но только ли это? Думается, Гагарин сделал нечто большее - он дал людям веру в их собственные силы, в их возможности, дал силу идти увереннее, смелее...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Это - Прометеево деяние...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                          С.П. КОРОЛ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Я Земля.mp3" descr=""/>
          <p:cNvPicPr/>
          <p:nvPr/>
        </p:nvPicPr>
        <p:blipFill>
          <a:blip r:embed="rId4"/>
          <a:stretch/>
        </p:blipFill>
        <p:spPr>
          <a:xfrm>
            <a:off x="8572680" y="6429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7" descr="9419816"/>
          <p:cNvPicPr/>
          <p:nvPr/>
        </p:nvPicPr>
        <p:blipFill>
          <a:blip r:embed="rId3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9419816"/>
          <p:cNvPicPr/>
          <p:nvPr/>
        </p:nvPicPr>
        <p:blipFill>
          <a:blip r:embed="rId4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9419816"/>
          <p:cNvPicPr/>
          <p:nvPr/>
        </p:nvPicPr>
        <p:blipFill>
          <a:blip r:embed="rId6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6" descr="imgB"/>
          <p:cNvPicPr/>
          <p:nvPr/>
        </p:nvPicPr>
        <p:blipFill>
          <a:blip r:embed="rId7"/>
          <a:stretch/>
        </p:blipFill>
        <p:spPr>
          <a:xfrm>
            <a:off x="1547640" y="47628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7" descr="9419816"/>
          <p:cNvPicPr/>
          <p:nvPr/>
        </p:nvPicPr>
        <p:blipFill>
          <a:blip r:embed="rId8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9419816"/>
          <p:cNvPicPr/>
          <p:nvPr/>
        </p:nvPicPr>
        <p:blipFill>
          <a:blip r:embed="rId9"/>
          <a:stretch/>
        </p:blipFill>
        <p:spPr>
          <a:xfrm>
            <a:off x="0" y="328608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6" descr="imgB"/>
          <p:cNvPicPr/>
          <p:nvPr/>
        </p:nvPicPr>
        <p:blipFill>
          <a:blip r:embed="rId10"/>
          <a:stretch/>
        </p:blipFill>
        <p:spPr>
          <a:xfrm>
            <a:off x="1571760" y="50004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9419816"/>
          <p:cNvPicPr/>
          <p:nvPr/>
        </p:nvPicPr>
        <p:blipFill>
          <a:blip r:embed="rId11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9419816"/>
          <p:cNvPicPr/>
          <p:nvPr/>
        </p:nvPicPr>
        <p:blipFill>
          <a:blip r:embed="rId12"/>
          <a:stretch/>
        </p:blipFill>
        <p:spPr>
          <a:xfrm>
            <a:off x="888048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9419816"/>
          <p:cNvPicPr/>
          <p:nvPr/>
        </p:nvPicPr>
        <p:blipFill>
          <a:blip r:embed="rId13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Его отец, Алексей Иванович Гагарин (1902—1973), - плотник, мать, Анна Тимофеевна Матвеева (1903—1984), - работала на молочнотоварной ферм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9419816"/>
          <p:cNvPicPr/>
          <p:nvPr/>
        </p:nvPicPr>
        <p:blipFill>
          <a:blip r:embed="rId4"/>
          <a:stretch/>
        </p:blipFill>
        <p:spPr>
          <a:xfrm>
            <a:off x="2987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9419816"/>
          <p:cNvPicPr/>
          <p:nvPr/>
        </p:nvPicPr>
        <p:blipFill>
          <a:blip r:embed="rId6"/>
          <a:stretch/>
        </p:blipFill>
        <p:spPr>
          <a:xfrm>
            <a:off x="4211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4" descr="gagarin_roditeli"/>
          <p:cNvPicPr/>
          <p:nvPr/>
        </p:nvPicPr>
        <p:blipFill>
          <a:blip r:embed="rId7"/>
          <a:stretch/>
        </p:blipFill>
        <p:spPr>
          <a:xfrm>
            <a:off x="971640" y="476280"/>
            <a:ext cx="7129440" cy="4629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9419816"/>
          <p:cNvPicPr/>
          <p:nvPr/>
        </p:nvPicPr>
        <p:blipFill>
          <a:blip r:embed="rId8"/>
          <a:stretch/>
        </p:blipFill>
        <p:spPr>
          <a:xfrm>
            <a:off x="543564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gagarin_roditeli"/>
          <p:cNvPicPr/>
          <p:nvPr/>
        </p:nvPicPr>
        <p:blipFill>
          <a:blip r:embed="rId9"/>
          <a:stretch/>
        </p:blipFill>
        <p:spPr>
          <a:xfrm>
            <a:off x="1000080" y="500040"/>
            <a:ext cx="7129440" cy="4629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9419816"/>
          <p:cNvPicPr/>
          <p:nvPr/>
        </p:nvPicPr>
        <p:blipFill>
          <a:blip r:embed="rId10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9419816"/>
          <p:cNvPicPr/>
          <p:nvPr/>
        </p:nvPicPr>
        <p:blipFill>
          <a:blip r:embed="rId11"/>
          <a:stretch/>
        </p:blipFill>
        <p:spPr>
          <a:xfrm>
            <a:off x="888048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9419816"/>
          <p:cNvPicPr/>
          <p:nvPr/>
        </p:nvPicPr>
        <p:blipFill>
          <a:blip r:embed="rId12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9419816"/>
          <p:cNvPicPr/>
          <p:nvPr/>
        </p:nvPicPr>
        <p:blipFill>
          <a:blip r:embed="rId13"/>
          <a:stretch/>
        </p:blipFill>
        <p:spPr>
          <a:xfrm>
            <a:off x="0" y="314316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9419816"/>
          <p:cNvPicPr/>
          <p:nvPr/>
        </p:nvPicPr>
        <p:blipFill>
          <a:blip r:embed="rId2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9419816"/>
          <p:cNvPicPr/>
          <p:nvPr/>
        </p:nvPicPr>
        <p:blipFill>
          <a:blip r:embed="rId3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9419816"/>
          <p:cNvPicPr/>
          <p:nvPr/>
        </p:nvPicPr>
        <p:blipFill>
          <a:blip r:embed="rId4"/>
          <a:stretch/>
        </p:blipFill>
        <p:spPr>
          <a:xfrm>
            <a:off x="0" y="321480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9419816"/>
          <p:cNvPicPr/>
          <p:nvPr/>
        </p:nvPicPr>
        <p:blipFill>
          <a:blip r:embed="rId5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9419816"/>
          <p:cNvPicPr/>
          <p:nvPr/>
        </p:nvPicPr>
        <p:blipFill>
          <a:blip r:embed="rId6"/>
          <a:stretch/>
        </p:blipFill>
        <p:spPr>
          <a:xfrm>
            <a:off x="889308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9419816"/>
          <p:cNvPicPr/>
          <p:nvPr/>
        </p:nvPicPr>
        <p:blipFill>
          <a:blip r:embed="rId7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9419816"/>
          <p:cNvPicPr/>
          <p:nvPr/>
        </p:nvPicPr>
        <p:blipFill>
          <a:blip r:embed="rId8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16536_49e034cc514f2"/>
          <p:cNvPicPr/>
          <p:nvPr/>
        </p:nvPicPr>
        <p:blipFill>
          <a:blip r:embed="rId9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5"/>
          <p:cNvSpPr/>
          <p:nvPr/>
        </p:nvSpPr>
        <p:spPr>
          <a:xfrm>
            <a:off x="3708360" y="404640"/>
            <a:ext cx="496728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1 сентября 1941 года мальчик пошёл в школу, но 12 октября деревню заняли немцы, и его учёба прервалась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Семья Юрия оказалась в тылу врага. Семье Гагариных пришлось испытать на себе все ужасы и тяготы военного лихолетья. Но именно в эти годы у будущего космонавта зародилась мечта летать, стать летчико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Однажды над родным селом, занятым фашистами, советский летчик повторил подвиг капитана Гастелло, протаранив немецкий самолет. Объятый пламенем самолет упал на скопившиеся на сельской улице немецкие танки и пушки. «Вот так надо любить Родину и ненавидеть врагов, - подумал Юра.- Я вырасту и обязательно буду летчиком». Став взрослым, он выполнил свое  обещание.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16" descr="9419816"/>
          <p:cNvPicPr/>
          <p:nvPr/>
        </p:nvPicPr>
        <p:blipFill>
          <a:blip r:embed="rId10"/>
          <a:stretch/>
        </p:blipFill>
        <p:spPr>
          <a:xfrm>
            <a:off x="8893080" y="342900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9419816"/>
          <p:cNvPicPr/>
          <p:nvPr/>
        </p:nvPicPr>
        <p:blipFill>
          <a:blip r:embed="rId11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62" name="07_-_smolenskaya_doroga.mp3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17758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5" descr="9419816"/>
          <p:cNvPicPr/>
          <p:nvPr/>
        </p:nvPicPr>
        <p:blipFill>
          <a:blip r:embed="rId3"/>
          <a:stretch/>
        </p:blipFill>
        <p:spPr>
          <a:xfrm>
            <a:off x="0" y="35719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9419816"/>
          <p:cNvPicPr/>
          <p:nvPr/>
        </p:nvPicPr>
        <p:blipFill>
          <a:blip r:embed="rId4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9419816"/>
          <p:cNvPicPr/>
          <p:nvPr/>
        </p:nvPicPr>
        <p:blipFill>
          <a:blip r:embed="rId5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2" descr="9419816"/>
          <p:cNvPicPr/>
          <p:nvPr/>
        </p:nvPicPr>
        <p:blipFill>
          <a:blip r:embed="rId6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4" descr="16536_49e034cc514f2"/>
          <p:cNvPicPr/>
          <p:nvPr/>
        </p:nvPicPr>
        <p:blipFill>
          <a:blip r:embed="rId7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5"/>
          <p:cNvSpPr/>
          <p:nvPr/>
        </p:nvSpPr>
        <p:spPr>
          <a:xfrm>
            <a:off x="3708360" y="620640"/>
            <a:ext cx="504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9 апреля 1943 года деревню освободила Красная армия, и учёба в школе возобновила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В 1945 году семья Гагариных переезжает в райцентр Гжатск (ныне город  Гагарин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В мае 1949 года Гагарин окончил шестой класс Гжатской средней школы, и в сентябре поступил в Люберецкое ремесленное училище № 10. Одновременно поступил в вечернюю школу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рабочей молодёж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Calibri"/>
              </a:rPr>
              <a:t>Седьмой класс и училище с отличием окончил в  1951 год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16" descr="9419816"/>
          <p:cNvPicPr/>
          <p:nvPr/>
        </p:nvPicPr>
        <p:blipFill>
          <a:blip r:embed="rId8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9419816"/>
          <p:cNvPicPr/>
          <p:nvPr/>
        </p:nvPicPr>
        <p:blipFill>
          <a:blip r:embed="rId9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9419816"/>
          <p:cNvPicPr/>
          <p:nvPr/>
        </p:nvPicPr>
        <p:blipFill>
          <a:blip r:embed="rId10"/>
          <a:stretch/>
        </p:blipFill>
        <p:spPr>
          <a:xfrm>
            <a:off x="8880480" y="3357720"/>
            <a:ext cx="263520" cy="247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9419816"/>
          <p:cNvPicPr/>
          <p:nvPr/>
        </p:nvPicPr>
        <p:blipFill>
          <a:blip r:embed="rId11"/>
          <a:stretch/>
        </p:blipFill>
        <p:spPr>
          <a:xfrm>
            <a:off x="9012240" y="661032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9419816"/>
          <p:cNvPicPr/>
          <p:nvPr/>
        </p:nvPicPr>
        <p:blipFill>
          <a:blip r:embed="rId12"/>
          <a:stretch/>
        </p:blipFill>
        <p:spPr>
          <a:xfrm>
            <a:off x="0" y="661032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9419816"/>
          <p:cNvPicPr/>
          <p:nvPr/>
        </p:nvPicPr>
        <p:blipFill>
          <a:blip r:embed="rId6"/>
          <a:stretch/>
        </p:blipFill>
        <p:spPr>
          <a:xfrm>
            <a:off x="889308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3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14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5" descr="163640088"/>
          <p:cNvPicPr/>
          <p:nvPr/>
        </p:nvPicPr>
        <p:blipFill>
          <a:blip r:embed="rId11"/>
          <a:stretch/>
        </p:blipFill>
        <p:spPr>
          <a:xfrm>
            <a:off x="1332000" y="480960"/>
            <a:ext cx="6119640" cy="39466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6"/>
          <p:cNvSpPr/>
          <p:nvPr/>
        </p:nvSpPr>
        <p:spPr>
          <a:xfrm>
            <a:off x="324000" y="45813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В августе 1951 года Гагарин поступил в Саратовский индустриальный техникум, и 25 октября 1954 года впервые пришёл в Саратовский аэрокл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9419816"/>
          <p:cNvPicPr/>
          <p:nvPr/>
        </p:nvPicPr>
        <p:blipFill>
          <a:blip r:embed="rId12"/>
          <a:stretch/>
        </p:blipFill>
        <p:spPr>
          <a:xfrm>
            <a:off x="0" y="3286080"/>
            <a:ext cx="2635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9419816"/>
          <p:cNvPicPr/>
          <p:nvPr/>
        </p:nvPicPr>
        <p:blipFill>
          <a:blip r:embed="rId4"/>
          <a:stretch/>
        </p:blipFill>
        <p:spPr>
          <a:xfrm>
            <a:off x="0" y="328464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9419816"/>
          <p:cNvPicPr/>
          <p:nvPr/>
        </p:nvPicPr>
        <p:blipFill>
          <a:blip r:embed="rId7"/>
          <a:stretch/>
        </p:blipFill>
        <p:spPr>
          <a:xfrm>
            <a:off x="8893080" y="321300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6" descr="img"/>
          <p:cNvPicPr/>
          <p:nvPr/>
        </p:nvPicPr>
        <p:blipFill>
          <a:blip r:embed="rId12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7"/>
          <p:cNvSpPr/>
          <p:nvPr/>
        </p:nvSpPr>
        <p:spPr>
          <a:xfrm>
            <a:off x="4788000" y="907920"/>
            <a:ext cx="385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27 октября 1955 года Гагарин был призван в армию в Оренбург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в военно-авиационное училище лётчиков имени К. Е. Ворошилов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25 октября 1957 года Гагарин  закончил училище с отличи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В течение двух лет служил в  авиационном полк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К октябрю 1959 года налетал в общей сложности 265 час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9419816"/>
          <p:cNvPicPr/>
          <p:nvPr/>
        </p:nvPicPr>
        <p:blipFill>
          <a:blip r:embed="rId4"/>
          <a:stretch/>
        </p:blipFill>
        <p:spPr>
          <a:xfrm>
            <a:off x="0" y="306864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6" descr="9419816"/>
          <p:cNvPicPr/>
          <p:nvPr/>
        </p:nvPicPr>
        <p:blipFill>
          <a:blip r:embed="rId5"/>
          <a:stretch/>
        </p:blipFill>
        <p:spPr>
          <a:xfrm>
            <a:off x="0" y="6453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9419816"/>
          <p:cNvPicPr/>
          <p:nvPr/>
        </p:nvPicPr>
        <p:blipFill>
          <a:blip r:embed="rId7"/>
          <a:stretch/>
        </p:blipFill>
        <p:spPr>
          <a:xfrm>
            <a:off x="8893080" y="6453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9419816"/>
          <p:cNvPicPr/>
          <p:nvPr/>
        </p:nvPicPr>
        <p:blipFill>
          <a:blip r:embed="rId8"/>
          <a:stretch/>
        </p:blipFill>
        <p:spPr>
          <a:xfrm>
            <a:off x="8893080" y="299736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5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16" descr="B3A17A29-ADDC-44EA-9CB8-8714D0D9144E_mw800_mh600_s"/>
          <p:cNvPicPr/>
          <p:nvPr/>
        </p:nvPicPr>
        <p:blipFill>
          <a:blip r:embed="rId12"/>
          <a:stretch/>
        </p:blipFill>
        <p:spPr>
          <a:xfrm>
            <a:off x="2268360" y="54936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7"/>
          <p:cNvSpPr/>
          <p:nvPr/>
        </p:nvSpPr>
        <p:spPr>
          <a:xfrm>
            <a:off x="324000" y="407664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зачислен в группу кандидатов в космонавты. С 25 марта начались регулярные занятия по программе подготовки космонав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071960" cy="6858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3"/>
          <a:stretch/>
        </p:blipFill>
        <p:spPr>
          <a:xfrm>
            <a:off x="371484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621" name="vistupl6.mp3" descr=""/>
          <p:cNvPicPr/>
          <p:nvPr/>
        </p:nvPicPr>
        <p:blipFill>
          <a:blip r:embed="rId4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32532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1285920" y="142920"/>
            <a:ext cx="6500880" cy="6572160"/>
          </a:xfrm>
          <a:prstGeom prst="rect">
            <a:avLst/>
          </a:prstGeom>
          <a:ln w="0">
            <a:noFill/>
          </a:ln>
        </p:spPr>
      </p:pic>
      <p:pic>
        <p:nvPicPr>
          <p:cNvPr id="623" name="govority.mp3" descr=""/>
          <p:cNvPicPr/>
          <p:nvPr/>
        </p:nvPicPr>
        <p:blipFill>
          <a:blip r:embed="rId3"/>
          <a:stretch/>
        </p:blipFill>
        <p:spPr>
          <a:xfrm>
            <a:off x="154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67712" fill="hold"/>
                                        <p:tgtEl>
                                          <p:spTgt spid="6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9419816"/>
          <p:cNvPicPr/>
          <p:nvPr/>
        </p:nvPicPr>
        <p:blipFill>
          <a:blip r:embed="rId3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9419816"/>
          <p:cNvPicPr/>
          <p:nvPr/>
        </p:nvPicPr>
        <p:blipFill>
          <a:blip r:embed="rId4"/>
          <a:stretch/>
        </p:blipFill>
        <p:spPr>
          <a:xfrm>
            <a:off x="0" y="35002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9419816"/>
          <p:cNvPicPr/>
          <p:nvPr/>
        </p:nvPicPr>
        <p:blipFill>
          <a:blip r:embed="rId6"/>
          <a:stretch/>
        </p:blipFill>
        <p:spPr>
          <a:xfrm>
            <a:off x="8893080" y="35002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9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7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19"/>
          <p:cNvSpPr/>
          <p:nvPr/>
        </p:nvSpPr>
        <p:spPr>
          <a:xfrm>
            <a:off x="2928960" y="285840"/>
            <a:ext cx="607212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Москва встречала своего героя. Цветы, улыбки, праздничное ликование. Героя поздравляли герой правительства, вручали высокие награды. За осуществление первого в мире космического полета Юрию Алексеевичу Гагарину было присвоено звание майора и впервые учрежденное звание «летчик-космонавт». За героический подвиг, прославивший нашу родину, за мужество, отвагу и беззаветное служение народу и делу прогресса первому в мире летчику-космонавту майору Юрию Гагарину было присвоено звание Героя Советского Союза с вручением ордена Ленина и медали «Золотая Звезда», в Москве был установлен бюст    Героя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1"/>
          <a:stretch/>
        </p:blipFill>
        <p:spPr>
          <a:xfrm>
            <a:off x="285840" y="285768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12"/>
          <a:stretch/>
        </p:blipFill>
        <p:spPr>
          <a:xfrm>
            <a:off x="214200" y="214200"/>
            <a:ext cx="25005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793377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7"/>
          <p:cNvPicPr/>
          <p:nvPr/>
        </p:nvPicPr>
        <p:blipFill>
          <a:blip r:embed="rId3"/>
          <a:stretch/>
        </p:blipFill>
        <p:spPr>
          <a:xfrm>
            <a:off x="2268360" y="1052640"/>
            <a:ext cx="4535640" cy="453528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714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0" y="142920"/>
            <a:ext cx="90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ечтать должен каждый … учиться мечтать, потому что без мечты нет движения вперед. И главная моя мечта — еще летать и летать в космо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Юрий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4643280" y="14292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3"/>
          <a:stretch/>
        </p:blipFill>
        <p:spPr>
          <a:xfrm>
            <a:off x="142920" y="3786120"/>
            <a:ext cx="4500360" cy="30718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"/>
          <p:cNvPicPr/>
          <p:nvPr/>
        </p:nvPicPr>
        <p:blipFill>
          <a:blip r:embed="rId4"/>
          <a:stretch/>
        </p:blipFill>
        <p:spPr>
          <a:xfrm>
            <a:off x="142920" y="0"/>
            <a:ext cx="4500360" cy="37861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5"/>
          <a:stretch/>
        </p:blipFill>
        <p:spPr>
          <a:xfrm>
            <a:off x="4643280" y="3571920"/>
            <a:ext cx="4253040" cy="32860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"/>
          <p:cNvSpPr/>
          <p:nvPr/>
        </p:nvSpPr>
        <p:spPr>
          <a:xfrm>
            <a:off x="428760" y="3357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Arial"/>
              </a:rPr>
              <a:t>На свою родину, в Гжатск Смоленской области, Ю. Гагарин попал только в июне 1961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"/>
          <p:cNvPicPr/>
          <p:nvPr/>
        </p:nvPicPr>
        <p:blipFill>
          <a:blip r:embed="rId2"/>
          <a:stretch/>
        </p:blipFill>
        <p:spPr>
          <a:xfrm>
            <a:off x="2714760" y="285840"/>
            <a:ext cx="3286080" cy="4324320"/>
          </a:xfrm>
          <a:prstGeom prst="rect">
            <a:avLst/>
          </a:prstGeom>
          <a:ln w="0">
            <a:noFill/>
          </a:ln>
        </p:spPr>
      </p:pic>
      <p:sp>
        <p:nvSpPr>
          <p:cNvPr id="647" name="TextBox 2"/>
          <p:cNvSpPr/>
          <p:nvPr/>
        </p:nvSpPr>
        <p:spPr>
          <a:xfrm>
            <a:off x="285840" y="485784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ходясь в Канаде, Ю. Гагарин узнал о полете в космос Германа Титова. Это было 6 августа 1961 года. Полет второго космонавта продолжался уже 25 часов 11 минут, отсчитано 700 тысяч километров. Открылась новая эра космонав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"/>
          <p:cNvPicPr/>
          <p:nvPr/>
        </p:nvPicPr>
        <p:blipFill>
          <a:blip r:embed="rId2"/>
          <a:stretch/>
        </p:blipFill>
        <p:spPr>
          <a:xfrm>
            <a:off x="2286000" y="5000760"/>
            <a:ext cx="3286080" cy="1857240"/>
          </a:xfrm>
          <a:prstGeom prst="rect">
            <a:avLst/>
          </a:prstGeom>
          <a:ln w="0">
            <a:noFill/>
          </a:ln>
        </p:spPr>
      </p:pic>
      <p:sp>
        <p:nvSpPr>
          <p:cNvPr id="649" name="TextBox 2"/>
          <p:cNvSpPr/>
          <p:nvPr/>
        </p:nvSpPr>
        <p:spPr>
          <a:xfrm>
            <a:off x="214200" y="14292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 напряженные будни первого космонавта Земли продолжались. Он был назначен командиром отряда советских космонавтов, избран депутатом Верховного Совета СССР, членом ЦК ВЛКСМ. Продолжал активную летную деятельность, совершенствовал свое образование, поступив в Военно-воздушную академию имени Н.Е. Жуковского. И готовился к новому космическому полету, приступив к тренировкам по программе нового космического корабля «Союз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knu.mp3" descr=""/>
          <p:cNvPicPr/>
          <p:nvPr/>
        </p:nvPicPr>
        <p:blipFill>
          <a:blip r:embed="rId3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40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1"/>
          <p:cNvSpPr/>
          <p:nvPr/>
        </p:nvSpPr>
        <p:spPr>
          <a:xfrm>
            <a:off x="357120" y="21420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долгу службы  Юрий Алексеевич часто бывал на киржачском аэродроме. Но его официальный приезд в Киржач состоялся 29 марта 1963 года. Это была незабываемая для киржачан встреча. Гагарин побывал на заводе «Красный октябрь», шелкокомбинате, беседовал с рабочими и специалистами. А вечером состоялась встреча в районном Доме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именем Ю.А. Гагарина в Киржачском районе связано и одно из печальнейших мест на Земле – место авиационной катострофы, унесшей жизнь первого космонавта Земли, Которому едва исполнилось 34 года. Она случилась во время тренировочного полета 27 марта 1968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2"/>
          <a:stretch/>
        </p:blipFill>
        <p:spPr>
          <a:xfrm>
            <a:off x="1571760" y="3857760"/>
            <a:ext cx="5667120" cy="285732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500040" y="28584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месте с Гагариным погиб еще один летчик, полководник В.С. Серег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катастрофа потрясла весь ми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642960" y="142884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амолет МИГ – 17 упал в глухой непро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мый лес около деревни Новоселово, Киржачского района и взорвался. Установить истинную причину катастрофы так и не удалось, хотя официальной комиссией было проведено беспрецедентное по глубине и тщательности расслед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3"/>
          <a:stretch/>
        </p:blipFill>
        <p:spPr>
          <a:xfrm>
            <a:off x="7358040" y="142920"/>
            <a:ext cx="16430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9419816"/>
          <p:cNvPicPr/>
          <p:nvPr/>
        </p:nvPicPr>
        <p:blipFill>
          <a:blip r:embed="rId4"/>
          <a:stretch/>
        </p:blipFill>
        <p:spPr>
          <a:xfrm>
            <a:off x="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9419816"/>
          <p:cNvPicPr/>
          <p:nvPr/>
        </p:nvPicPr>
        <p:blipFill>
          <a:blip r:embed="rId7"/>
          <a:stretch/>
        </p:blipFill>
        <p:spPr>
          <a:xfrm>
            <a:off x="889308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20" descr="Gagarin_3"/>
          <p:cNvPicPr/>
          <p:nvPr/>
        </p:nvPicPr>
        <p:blipFill>
          <a:blip r:embed="rId12"/>
          <a:stretch/>
        </p:blipFill>
        <p:spPr>
          <a:xfrm>
            <a:off x="1428840" y="981000"/>
            <a:ext cx="5951520" cy="4091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21"/>
          <p:cNvSpPr/>
          <p:nvPr/>
        </p:nvSpPr>
        <p:spPr>
          <a:xfrm>
            <a:off x="1844640" y="476280"/>
            <a:ext cx="55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alibri"/>
              </a:rPr>
              <a:t>Место гибели Ю. Гагарина и В. Серёгина - Мемориа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4071960" cy="6000480"/>
          </a:xfrm>
          <a:prstGeom prst="rect">
            <a:avLst/>
          </a:prstGeom>
          <a:ln w="0">
            <a:noFill/>
          </a:ln>
        </p:spPr>
      </p:pic>
      <p:sp>
        <p:nvSpPr>
          <p:cNvPr id="674" name="TextBox 2"/>
          <p:cNvSpPr/>
          <p:nvPr/>
        </p:nvSpPr>
        <p:spPr>
          <a:xfrm>
            <a:off x="4286160" y="285840"/>
            <a:ext cx="471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 месте трагической гибели Ю.А. Гагарина и В.С. Серегина сооружен мемориал, в центре его – стела из красного камня, на которой в барельефном изображении – портреты погибших. Зимой и летом идут сюда люди, чтобы минутой скорбного молчания почтить память героев, приезжают их родные и близкие, российские и зарубежные космонав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31172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2"/>
          <p:cNvSpPr/>
          <p:nvPr/>
        </p:nvSpPr>
        <p:spPr>
          <a:xfrm>
            <a:off x="4429080" y="285840"/>
            <a:ext cx="45007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агаринский старт открыл двери во вселенную. Пусть всего 108 минут, но эти минуты стали поворотными в истории. За ними стояли годы неутомимой, самоотверженной работы больших коллективов ученых, инженеров, медиков, рабочих, людей многих специальностей. Мечты поколений, идей фантастов реализованы нашими современни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 клубке орбит, намотанных на земной шар, никогда не потеряется первый виток – гагаринский», - пис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 Ти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09_-_sozvezdie_gagarina.mp3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" descr="9419816"/>
          <p:cNvPicPr/>
          <p:nvPr/>
        </p:nvPicPr>
        <p:blipFill>
          <a:blip r:embed="rId5"/>
          <a:stretch/>
        </p:blipFill>
        <p:spPr>
          <a:xfrm>
            <a:off x="0" y="35719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8" descr="9419816"/>
          <p:cNvPicPr/>
          <p:nvPr/>
        </p:nvPicPr>
        <p:blipFill>
          <a:blip r:embed="rId7"/>
          <a:stretch/>
        </p:blipFill>
        <p:spPr>
          <a:xfrm>
            <a:off x="889308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324000" y="486900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Во многих городах России и в городах других стран существуют улицы названные именем космонавта, проспекты, площади, бульвары, парки, клубы и школы имени Гагар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0" descr="phoca_thumb_l_p5"/>
          <p:cNvPicPr/>
          <p:nvPr/>
        </p:nvPicPr>
        <p:blipFill>
          <a:blip r:embed="rId12"/>
          <a:stretch/>
        </p:blipFill>
        <p:spPr>
          <a:xfrm>
            <a:off x="539640" y="549360"/>
            <a:ext cx="2880000" cy="3456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21" descr="05"/>
          <p:cNvPicPr/>
          <p:nvPr/>
        </p:nvPicPr>
        <p:blipFill>
          <a:blip r:embed="rId13"/>
          <a:stretch/>
        </p:blipFill>
        <p:spPr>
          <a:xfrm>
            <a:off x="3780000" y="549360"/>
            <a:ext cx="4608360" cy="345276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22"/>
          <p:cNvSpPr/>
          <p:nvPr/>
        </p:nvSpPr>
        <p:spPr>
          <a:xfrm>
            <a:off x="4591080" y="41497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Парк им. Ю. Гагарина в Сама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534960" y="4149720"/>
            <a:ext cx="29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Calibri"/>
              </a:rPr>
              <a:t>Памятник Ю. Гагарину в Моск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" descr="9419816"/>
          <p:cNvPicPr/>
          <p:nvPr/>
        </p:nvPicPr>
        <p:blipFill>
          <a:blip r:embed="rId5"/>
          <a:stretch/>
        </p:blipFill>
        <p:spPr>
          <a:xfrm>
            <a:off x="0" y="32860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8" descr="9419816"/>
          <p:cNvPicPr/>
          <p:nvPr/>
        </p:nvPicPr>
        <p:blipFill>
          <a:blip r:embed="rId7"/>
          <a:stretch/>
        </p:blipFill>
        <p:spPr>
          <a:xfrm>
            <a:off x="889308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9" descr="9419816"/>
          <p:cNvPicPr/>
          <p:nvPr/>
        </p:nvPicPr>
        <p:blipFill>
          <a:blip r:embed="rId8"/>
          <a:stretch/>
        </p:blipFill>
        <p:spPr>
          <a:xfrm>
            <a:off x="889308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324000" y="5300640"/>
            <a:ext cx="849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Существует также Кубок Гагарина, главный трофей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Континентальной хоккейной ли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20" descr="fae8d894befe"/>
          <p:cNvPicPr/>
          <p:nvPr/>
        </p:nvPicPr>
        <p:blipFill>
          <a:blip r:embed="rId12"/>
          <a:stretch/>
        </p:blipFill>
        <p:spPr>
          <a:xfrm>
            <a:off x="2916360" y="549360"/>
            <a:ext cx="3352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132000" y="404280"/>
            <a:ext cx="5680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alibri"/>
              </a:rPr>
              <a:t>Мечтать должен каждый. … учиться мечтать, потому что без мечты нет движения вперед. И главная моя мечта — еще летать и летать в космос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                 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Юрий Гагари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01680" y="1676160"/>
            <a:ext cx="2325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9419816"/>
          <p:cNvPicPr/>
          <p:nvPr/>
        </p:nvPicPr>
        <p:blipFill>
          <a:blip r:embed="rId4"/>
          <a:stretch/>
        </p:blipFill>
        <p:spPr>
          <a:xfrm>
            <a:off x="142920" y="6500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9419816"/>
          <p:cNvPicPr/>
          <p:nvPr/>
        </p:nvPicPr>
        <p:blipFill>
          <a:blip r:embed="rId5"/>
          <a:stretch/>
        </p:blipFill>
        <p:spPr>
          <a:xfrm>
            <a:off x="0" y="3357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9419816"/>
          <p:cNvPicPr/>
          <p:nvPr/>
        </p:nvPicPr>
        <p:blipFill>
          <a:blip r:embed="rId7"/>
          <a:stretch/>
        </p:blipFill>
        <p:spPr>
          <a:xfrm>
            <a:off x="889308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9" descr="9419816"/>
          <p:cNvPicPr/>
          <p:nvPr/>
        </p:nvPicPr>
        <p:blipFill>
          <a:blip r:embed="rId8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395280" y="4941720"/>
            <a:ext cx="849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В честь Гагарина назва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научно-исследовательское суд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«Космонавт Юрий Гагари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Picture 20" descr="image011"/>
          <p:cNvPicPr/>
          <p:nvPr/>
        </p:nvPicPr>
        <p:blipFill>
          <a:blip r:embed="rId12"/>
          <a:stretch/>
        </p:blipFill>
        <p:spPr>
          <a:xfrm>
            <a:off x="1258920" y="620640"/>
            <a:ext cx="66978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22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9419816"/>
          <p:cNvPicPr/>
          <p:nvPr/>
        </p:nvPicPr>
        <p:blipFill>
          <a:blip r:embed="rId4"/>
          <a:stretch/>
        </p:blipFill>
        <p:spPr>
          <a:xfrm>
            <a:off x="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9419816"/>
          <p:cNvPicPr/>
          <p:nvPr/>
        </p:nvPicPr>
        <p:blipFill>
          <a:blip r:embed="rId5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9419816"/>
          <p:cNvPicPr/>
          <p:nvPr/>
        </p:nvPicPr>
        <p:blipFill>
          <a:blip r:embed="rId6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9419816"/>
          <p:cNvPicPr/>
          <p:nvPr/>
        </p:nvPicPr>
        <p:blipFill>
          <a:blip r:embed="rId7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9419816"/>
          <p:cNvPicPr/>
          <p:nvPr/>
        </p:nvPicPr>
        <p:blipFill>
          <a:blip r:embed="rId8"/>
          <a:stretch/>
        </p:blipFill>
        <p:spPr>
          <a:xfrm>
            <a:off x="8893080" y="300024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13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18"/>
          <p:cNvSpPr/>
          <p:nvPr/>
        </p:nvSpPr>
        <p:spPr>
          <a:xfrm>
            <a:off x="324000" y="5516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Имя Юрия Гагарина носит кратер на обратной стороне Лу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20" descr="640"/>
          <p:cNvPicPr/>
          <p:nvPr/>
        </p:nvPicPr>
        <p:blipFill>
          <a:blip r:embed="rId12"/>
          <a:stretch/>
        </p:blipFill>
        <p:spPr>
          <a:xfrm>
            <a:off x="1476360" y="692280"/>
            <a:ext cx="629280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3357720" cy="53578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3"/>
          <a:stretch/>
        </p:blipFill>
        <p:spPr>
          <a:xfrm>
            <a:off x="4643280" y="85716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5572080" cy="57816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" descr=""/>
          <p:cNvPicPr/>
          <p:nvPr/>
        </p:nvPicPr>
        <p:blipFill>
          <a:blip r:embed="rId3"/>
          <a:stretch/>
        </p:blipFill>
        <p:spPr>
          <a:xfrm>
            <a:off x="5786280" y="642960"/>
            <a:ext cx="317664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468360" y="494172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5" descr="9419816"/>
          <p:cNvPicPr/>
          <p:nvPr/>
        </p:nvPicPr>
        <p:blipFill>
          <a:blip r:embed="rId3"/>
          <a:stretch/>
        </p:blipFill>
        <p:spPr>
          <a:xfrm>
            <a:off x="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9419816"/>
          <p:cNvPicPr/>
          <p:nvPr/>
        </p:nvPicPr>
        <p:blipFill>
          <a:blip r:embed="rId4"/>
          <a:stretch/>
        </p:blipFill>
        <p:spPr>
          <a:xfrm>
            <a:off x="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9419816"/>
          <p:cNvPicPr/>
          <p:nvPr/>
        </p:nvPicPr>
        <p:blipFill>
          <a:blip r:embed="rId6"/>
          <a:stretch/>
        </p:blipFill>
        <p:spPr>
          <a:xfrm>
            <a:off x="8893080" y="662472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9" descr="9419816"/>
          <p:cNvPicPr/>
          <p:nvPr/>
        </p:nvPicPr>
        <p:blipFill>
          <a:blip r:embed="rId7"/>
          <a:stretch/>
        </p:blipFill>
        <p:spPr>
          <a:xfrm>
            <a:off x="8893080" y="307188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15"/>
          <p:cNvSpPr/>
          <p:nvPr/>
        </p:nvSpPr>
        <p:spPr>
          <a:xfrm>
            <a:off x="395280" y="4076640"/>
            <a:ext cx="849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17"/>
          <p:cNvSpPr/>
          <p:nvPr/>
        </p:nvSpPr>
        <p:spPr>
          <a:xfrm>
            <a:off x="324000" y="4724280"/>
            <a:ext cx="8496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19"/>
          <p:cNvSpPr/>
          <p:nvPr/>
        </p:nvSpPr>
        <p:spPr>
          <a:xfrm>
            <a:off x="324000" y="544500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Picture 20" descr="587635_3"/>
          <p:cNvPicPr/>
          <p:nvPr/>
        </p:nvPicPr>
        <p:blipFill>
          <a:blip r:embed="rId11"/>
          <a:stretch/>
        </p:blipFill>
        <p:spPr>
          <a:xfrm>
            <a:off x="324000" y="260280"/>
            <a:ext cx="4968720" cy="39751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1"/>
          <p:cNvSpPr/>
          <p:nvPr/>
        </p:nvSpPr>
        <p:spPr>
          <a:xfrm>
            <a:off x="250920" y="220500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WordArt 22" descr=""/>
          <p:cNvPicPr/>
          <p:nvPr/>
        </p:nvPicPr>
        <p:blipFill>
          <a:blip r:embed="rId12"/>
          <a:stretch/>
        </p:blipFill>
        <p:spPr>
          <a:xfrm>
            <a:off x="603360" y="4863960"/>
            <a:ext cx="7888320" cy="1274760"/>
          </a:xfrm>
          <a:prstGeom prst="rect">
            <a:avLst/>
          </a:prstGeom>
          <a:ln w="0">
            <a:noFill/>
          </a:ln>
        </p:spPr>
      </p:pic>
      <p:sp>
        <p:nvSpPr>
          <p:cNvPr id="777" name="TextBox 22"/>
          <p:cNvSpPr/>
          <p:nvPr/>
        </p:nvSpPr>
        <p:spPr>
          <a:xfrm>
            <a:off x="5429160" y="42876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йдут годы, века, в памяти человечества многое сотрется или утратит свою ценность, но имя Юрия Гагарина в истории останется навсегда. А ушедший уже 20 век назовут среди прочего космическим 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С 9 апреля 1962 года в ознаменование первого в мире полета человека в космос в нашей стране ежегодно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12 апреля </a:t>
            </a: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отмечается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День космонавтики</a:t>
            </a:r>
            <a:r>
              <a:rPr b="1" lang="en-US" sz="3800" spc="-1" strike="noStrike">
                <a:solidFill>
                  <a:srgbClr val="ffff00"/>
                </a:solidFill>
                <a:latin typeface="Calibri"/>
              </a:rPr>
              <a:t>. По решению Международной авиационной федерации этот день стал Всемирным днем авиации и космонавтики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Запевала звёздных дорог.mp3" descr=""/>
          <p:cNvPicPr/>
          <p:nvPr/>
        </p:nvPicPr>
        <p:blipFill>
          <a:blip r:embed="rId2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6590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Запевала звёздных дорог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3"/>
          <a:stretch/>
        </p:blipFill>
        <p:spPr>
          <a:xfrm>
            <a:off x="857160" y="142920"/>
            <a:ext cx="7143840" cy="67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16590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2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1357200" y="214200"/>
            <a:ext cx="578664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9" descr="fon_cosmos01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5760" y="451008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АГАРИН Юрий Алексеевич</a:t>
            </a:r>
            <a:r>
              <a:rPr b="0" lang="en-US" sz="2800" spc="-1" strike="noStrike">
                <a:solidFill>
                  <a:srgbClr val="eeece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0_adc_62425ca2_XL"/>
          <p:cNvPicPr/>
          <p:nvPr/>
        </p:nvPicPr>
        <p:blipFill>
          <a:blip r:embed="rId3"/>
          <a:stretch/>
        </p:blipFill>
        <p:spPr>
          <a:xfrm>
            <a:off x="179280" y="0"/>
            <a:ext cx="3724560" cy="43210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9"/>
          <p:cNvSpPr/>
          <p:nvPr/>
        </p:nvSpPr>
        <p:spPr>
          <a:xfrm>
            <a:off x="318600" y="5013360"/>
            <a:ext cx="39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9 марта 1934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27 марта 1968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3924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Так кто же та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Юрий Гагарин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ервый космонав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ланеты Земл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бесстрашный рыцарь космос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славный сын нашей Род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челове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одвиг и улыбка котор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покорили всю нашу планет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00:11Z</dcterms:created>
  <dc:creator>User</dc:creator>
  <dc:description/>
  <dc:language>en-US</dc:language>
  <cp:lastModifiedBy>ольга</cp:lastModifiedBy>
  <dcterms:modified xsi:type="dcterms:W3CDTF">2012-02-29T05:55:19Z</dcterms:modified>
  <cp:revision>47</cp:revision>
  <dc:subject/>
  <dc:title>Слайд 1</dc:title>
</cp:coreProperties>
</file>